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18BF-81D8-48F0-8677-62905F5B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843C-2D74-48C4-9016-A0191CE4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2E8F-0629-40FB-9373-11FD054FF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D544-5459-4E08-A0D2-952BF229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F53D-430B-4CCA-94EB-0F10CCEE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DB5C-353D-4B0B-BF6A-948944023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2219-35A8-468A-9E39-FDAD0994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6FC6-B7D2-42F8-A91E-580B0E98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2F5C-C0A4-4E98-8806-D88A387E2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6B90-4FEF-4955-AFAD-276104D61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E8E8-BD02-45C8-8B49-FBA9FF12B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9780-ACB5-44BF-9B0E-A6D5EF5C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9867-67EA-4F8A-9FD9-0387939BB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268-7305-4E7D-A91A-5F20C997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076A-D747-4172-A802-3F70EF10C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28E7-9E42-4434-8217-298CA26E2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60F8-1E21-4F4F-9E0F-A221184A5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A2EA-15DC-4249-875C-341413355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93C3-8B28-44F9-86C8-0B8B3FC27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1FFF-6B1C-4040-AD76-1C1AA8E3F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52BE-F698-40C2-8352-10CD54C15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D982-8525-4F88-9F30-793615BFD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DA6-B4DC-4273-9873-58202E0C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5CF-DB2B-4DF1-9384-E02DBD67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2EA-21A2-4319-A0C0-29C43726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C09-5E48-45AC-98CA-E0B1AEA0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ED0-C841-474A-B8DD-4FA23D91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CA7-ED4C-4161-A56E-2BB4EA9B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AA4-7B85-4485-8D33-AC81029E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0E3-D312-4F2C-ABEF-22E45509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60D-A061-4549-9083-938AFFE9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E32-A20F-4E93-80A9-E32E7CC0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AE9-BB4D-4BF6-BD0D-BD664140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A25-5888-46A8-A40F-9C949207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481F-1D91-4CA4-A7E4-C80680326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5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28600" y="2362320"/>
            <a:ext cx="87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80880" y="175248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9880" y="1407600"/>
            <a:ext cx="777240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957240" y="3051000"/>
            <a:ext cx="36068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rew Hirschhorn 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vid Richards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an Mungovan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n Morris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wis Adams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0920" y="3051000"/>
            <a:ext cx="502920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stmead Private Physiotherapy Services, Westmead Private Hospital, Sydney, 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stmead Private Cardiology, Westmead Private Hospital, Sydney, Australi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chool of Physiotherapy and Exercise Science, Griffith University, Gold Coast, 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08040" y="541440"/>
            <a:ext cx="791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otherapy Supervised Walking Program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mediately Following CABG Results in Earlier Return of Functional Capacit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Randomized Controlled Tri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816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solute 6MWA distance (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8"/>
          <p:cNvGraphicFramePr/>
          <p:nvPr/>
        </p:nvGraphicFramePr>
        <p:xfrm>
          <a:off x="230040" y="1089000"/>
          <a:ext cx="8641080" cy="498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089000"/>
                    <a:ext cx="864108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78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solute 6MWA distance (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230040" y="1092240"/>
          <a:ext cx="8639280" cy="49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092240"/>
                    <a:ext cx="863928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Oval 4"/>
          <p:cNvSpPr/>
          <p:nvPr/>
        </p:nvSpPr>
        <p:spPr>
          <a:xfrm>
            <a:off x="3475080" y="1960560"/>
            <a:ext cx="714240" cy="13971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 flipH="1">
            <a:off x="4231800" y="1428840"/>
            <a:ext cx="2078280" cy="923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734160" y="1271520"/>
            <a:ext cx="1795320" cy="1631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tter than ‘Standar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0.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0.0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235080" y="1300320"/>
          <a:ext cx="8646840" cy="485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300320"/>
                    <a:ext cx="8646840" cy="48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3880" y="18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ital Capacity (L BT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685800" y="2973240"/>
          <a:ext cx="3809880" cy="2129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973240"/>
                    <a:ext cx="380988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6724800" y="1263600"/>
            <a:ext cx="2170080" cy="32792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o differences between intervention group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38% decline in VC from pre-operative to dis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ecovery to 85% pre-operative VC at follow-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7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615960" y="2048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-Related Q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6600" y="1263600"/>
            <a:ext cx="755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272880" y="905040"/>
          <a:ext cx="861408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905040"/>
                    <a:ext cx="86140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Oval 9"/>
          <p:cNvSpPr/>
          <p:nvPr/>
        </p:nvSpPr>
        <p:spPr>
          <a:xfrm>
            <a:off x="755640" y="1230480"/>
            <a:ext cx="747720" cy="2101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H="1" flipV="1">
            <a:off x="1441440" y="3041280"/>
            <a:ext cx="976320" cy="2901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523960" y="5573880"/>
            <a:ext cx="2038680" cy="5806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Large standard dev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8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15960" y="2048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-Related Q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6600" y="1263600"/>
            <a:ext cx="755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272880" y="905040"/>
          <a:ext cx="861408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905040"/>
                    <a:ext cx="86140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243240" y="123984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373800" y="123048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147080" y="123048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523960" y="5573880"/>
            <a:ext cx="2038680" cy="5806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o difference over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3262320" y="1247760"/>
            <a:ext cx="307800" cy="37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6392880" y="1222200"/>
            <a:ext cx="307800" cy="37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7156440" y="1247760"/>
            <a:ext cx="308160" cy="37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V="1">
            <a:off x="4484520" y="1635120"/>
            <a:ext cx="1811520" cy="3860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5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596880" y="196920"/>
            <a:ext cx="79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-Related Q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06600" y="1263600"/>
            <a:ext cx="755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8"/>
          <p:cNvGraphicFramePr/>
          <p:nvPr/>
        </p:nvGraphicFramePr>
        <p:xfrm>
          <a:off x="244440" y="932040"/>
          <a:ext cx="8631360" cy="46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932040"/>
                    <a:ext cx="86313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10"/>
          <p:cNvSpPr/>
          <p:nvPr/>
        </p:nvSpPr>
        <p:spPr>
          <a:xfrm>
            <a:off x="1766880" y="16272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1785960" y="1627200"/>
            <a:ext cx="307800" cy="37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 flipH="1" flipV="1">
            <a:off x="2047680" y="2101680"/>
            <a:ext cx="1082520" cy="385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3314880" y="5619600"/>
            <a:ext cx="2328840" cy="8240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emained significantly decreased from pre-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73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72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596880" y="196920"/>
            <a:ext cx="79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cations Prior to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06600" y="1263600"/>
            <a:ext cx="755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19160" y="907920"/>
          <a:ext cx="7131240" cy="4480200"/>
        </p:xfrm>
        <a:graphic>
          <a:graphicData uri="http://schemas.openxmlformats.org/drawingml/2006/table">
            <a:tbl>
              <a:tblPr/>
              <a:tblGrid>
                <a:gridCol w="2795760"/>
                <a:gridCol w="1450800"/>
                <a:gridCol w="1424160"/>
                <a:gridCol w="146052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l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lking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rea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vated WCC post-operativ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/3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/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/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mpanic temperature ≥ 38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 post-operativ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cription of respiratory antibio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quirement of FiO2 &gt; 50% for &gt; 24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-operative atrial fibri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ngth of stay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median, IQ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 6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6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, 6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06600" y="5396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of Key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06600" y="1263600"/>
            <a:ext cx="7556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06600" y="1263600"/>
            <a:ext cx="7556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moderate intensity, walking exercise program, performed u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rect physiotherapy supervision, improved sub-maximal 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pacity at hospital dis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absence of continuing exercise supervision, this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 not sustained at four-week follow-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program conferred no measurable benefit in terms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ated QOL, VC, PPC markers or 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rogram did not increase the rate of post-operative a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bri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rformance of a combination of specific respirator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culoskeletal exercises provided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itional measurable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06600" y="5396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lusions/Clinical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06600" y="1263600"/>
            <a:ext cx="7556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rly walking program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ne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implications for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ipation in Phase 2 Cardi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habil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rther research requir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termine optimal level/do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aerobic exercise foll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B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DSC00017"/>
          <p:cNvPicPr/>
          <p:nvPr/>
        </p:nvPicPr>
        <p:blipFill>
          <a:blip r:embed="rId1"/>
          <a:stretch/>
        </p:blipFill>
        <p:spPr>
          <a:xfrm>
            <a:off x="4657680" y="2021040"/>
            <a:ext cx="3809880" cy="28573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1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06600" y="5396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sical/Clinic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6600" y="1263600"/>
            <a:ext cx="39733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0 Bed Private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rdiac Surge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ximately 250 Cardiac Surgeries/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s 1% of CABG Australia-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Westmead Private (Night)"/>
          <p:cNvPicPr/>
          <p:nvPr/>
        </p:nvPicPr>
        <p:blipFill>
          <a:blip r:embed="rId1"/>
          <a:stretch/>
        </p:blipFill>
        <p:spPr>
          <a:xfrm>
            <a:off x="4578480" y="2106720"/>
            <a:ext cx="3809880" cy="3112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6480" y="1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ative 6MWA distance (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5"/>
          <p:cNvGraphicFramePr/>
          <p:nvPr/>
        </p:nvGraphicFramePr>
        <p:xfrm>
          <a:off x="241200" y="1108080"/>
          <a:ext cx="8642520" cy="49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1108080"/>
                    <a:ext cx="86425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681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ative 6MWA distance (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228600" y="1098720"/>
          <a:ext cx="8658360" cy="499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98720"/>
                    <a:ext cx="8658360" cy="49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Oval 4"/>
          <p:cNvSpPr/>
          <p:nvPr/>
        </p:nvSpPr>
        <p:spPr>
          <a:xfrm>
            <a:off x="2011320" y="2635200"/>
            <a:ext cx="598680" cy="174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099200" y="1263600"/>
            <a:ext cx="2044800" cy="8240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o significant change from pre-operative 6M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2643120" y="1828800"/>
            <a:ext cx="4081680" cy="1014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606600" y="5396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ear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06600" y="1263600"/>
            <a:ext cx="755640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quina et al (2003)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(Systematic re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vidence lacking on benefit from any method of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rophylactic respiratory physiotherapy after cardiac surger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asher et al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removal of a regimen of routine prophylactic deep breathing exercises…has no deleterious effect on patient outco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n der Peijl et al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higher frequency exercise program leads to earlier performance of functional milestone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606600" y="5396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ear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06600" y="1263600"/>
            <a:ext cx="7556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a moderate intensity walking program, performed under direct physiotherapy supervision, improve sub-maximal exercise capacity, vital capacity, self-reported health or length of stay (after elective CABG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the addition of specific respiratory and musculoskeletal exercises provide further benefit as regards these outco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606600" y="5396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606600" y="1263600"/>
            <a:ext cx="7556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pective enrolment of non-emergency CABG (without planned, concomitant surg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2 patients (80 men, 12 women), mean age 63 ±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ed to three physiotherapy treatment protoc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ndard (minimal) intervention (n=3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lking exercise (n=3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lking/breathing exercise (n=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606600" y="5396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ventio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6600" y="1263600"/>
            <a:ext cx="755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78" name="Oval 5"/>
          <p:cNvSpPr/>
          <p:nvPr/>
        </p:nvSpPr>
        <p:spPr>
          <a:xfrm>
            <a:off x="2925720" y="4363920"/>
            <a:ext cx="225360" cy="24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ndard intervention (n=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-operative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-operative respiratory assessment (dai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OB PO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ulate 10 metres PO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ulate 30 metres PO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irs when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activity per Heart Foundation            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"/>
          <p:cNvSpPr/>
          <p:nvPr/>
        </p:nvSpPr>
        <p:spPr>
          <a:xfrm flipH="1">
            <a:off x="3166560" y="2178000"/>
            <a:ext cx="1397160" cy="2152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2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606600" y="5396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ventio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6600" y="1263600"/>
            <a:ext cx="755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lking exercise (n=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-operative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-operative respiratory assessment (dai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ice daily supervised walking exercis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 on spot day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by increments of 2.5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PE 3-4/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9"/>
          <p:cNvSpPr/>
          <p:nvPr/>
        </p:nvSpPr>
        <p:spPr>
          <a:xfrm>
            <a:off x="1719360" y="2760840"/>
            <a:ext cx="1654200" cy="1114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 flipH="1">
            <a:off x="3375000" y="2227320"/>
            <a:ext cx="1222560" cy="76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06600" y="5396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ventio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06600" y="1263600"/>
            <a:ext cx="755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lking/breathing exercise (n=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 walking 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entive spir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d upper limb/thoracic mobility and deep breathing exerc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7"/>
          <p:cNvSpPr/>
          <p:nvPr/>
        </p:nvSpPr>
        <p:spPr>
          <a:xfrm>
            <a:off x="1719360" y="2760840"/>
            <a:ext cx="1654200" cy="1114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H="1">
            <a:off x="3375000" y="2227320"/>
            <a:ext cx="1222560" cy="76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2"/>
          <p:cNvSpPr/>
          <p:nvPr/>
        </p:nvSpPr>
        <p:spPr>
          <a:xfrm>
            <a:off x="0" y="5381640"/>
            <a:ext cx="6005520" cy="1476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0" y="0"/>
            <a:ext cx="9144000" cy="558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6600" y="539640"/>
            <a:ext cx="79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utcom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06600" y="1263600"/>
            <a:ext cx="755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ma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-minute walk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ta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-related quality of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F-36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oR-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-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a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C ma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929120" y="1979640"/>
            <a:ext cx="2158920" cy="719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-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921200" y="3424320"/>
            <a:ext cx="2158920" cy="718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921200" y="4889520"/>
            <a:ext cx="2158920" cy="719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/52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5992920" y="287640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6013440" y="436716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7:36:49Z</dcterms:created>
  <dc:creator>Mungovan Breckenridge Physiot</dc:creator>
  <dc:description/>
  <dc:language>en-US</dc:language>
  <cp:lastModifiedBy>Sam Leong</cp:lastModifiedBy>
  <dcterms:modified xsi:type="dcterms:W3CDTF">2013-07-01T23:40:37Z</dcterms:modified>
  <cp:revision>72</cp:revision>
  <dc:subject/>
  <dc:title>Slide 1</dc:title>
</cp:coreProperties>
</file>