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14.wmf" ContentType="image/x-wmf"/>
  <Override PartName="/ppt/media/image22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8670-418E-46AE-886B-B7B7EB0C9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E74A-7687-4B21-A62F-A94CA5800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EBBE-9D8E-4598-BB71-870650F50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6B00-CB53-42EB-9B50-664DF033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1264-2C26-4F29-A919-60AED5FCC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9480-6C3A-4D7D-8A11-06B8D1221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B9E6-8BE6-4216-931F-73EDB5EF1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69FA-0844-4488-8A2A-3AC495E04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5941-1CDC-4902-83D0-605C2BA57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BC96-AB2F-4721-9C59-D99E2288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64DF-0F5C-4460-9F31-149D4D235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A90C-57C8-4A2D-A1F7-A11FF67F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2463-2C45-4B10-AD55-1995F173C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7A5E-85A0-46F7-A0D4-ADFCA7C1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0606-D5EB-431F-B28C-B0254D779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C4A9-571A-4F12-8DE4-A75D227F8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E50F-71F4-4F1D-9DC0-FD4F93348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C4A4-0991-478F-8D2A-E7565C5B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09E4-5DB7-4DCB-A5BD-6467BB521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3E5A-EB65-4E62-AB86-758F16F23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BA6D-08C5-45E8-8F14-963DB4CB1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B13D-24F9-4587-A89D-EFCC07B98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9104-D465-4034-B1B8-95226F9AA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B6F0-A0C2-47A3-847F-55753630D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A9DC-B4C0-40FA-9F18-25DEA708B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25F9-F84E-4C08-A51F-C45BF661D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6814-3591-47E7-A1C5-404AAF3C2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3D1F-4A6A-4F3E-AE19-31778C20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A29E-7EB9-4B33-8D17-3BFAB5FA9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2AE3-0FE3-4F08-8C3A-AC352B886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D5D3-B9CB-4FFC-A5EB-44E086CD7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AFC3-B913-439B-9A0B-81D6E3E30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01C9-229A-4734-90FF-CB0EFDC09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9604-FEC2-4DD2-84B4-1A1CB278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FF2F-E875-454D-80E3-E4DC1CA10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BE64-FD8D-4ADD-8174-304329DAF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5C48-D358-4868-A036-072BBDB81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A6D2-1D65-47ED-BF13-96AAB63B7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C6BB-CB9A-44B2-9F9A-2410F3AF0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6A31-E354-4CCA-9D5D-B74FA5BDF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2B1-B472-47AC-B3E3-F4249663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946-E585-4901-B0B3-BBD59ED7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1C5-1F55-4CE9-80D4-F8E0C1E7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669-708C-4721-A6D9-31C06926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23B-CDE1-40CD-BB6B-8C4D0CA9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D97-C980-47FF-B5FA-F62E7BFB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902-78D2-4326-86B4-0D7C5EDC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7D1-864F-4A29-8152-C12CF4AA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F3D-0227-4374-A7B4-DA6587B6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135-D39E-4316-9ABD-2C055847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70C-F48A-448E-996D-0B49008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8EE-A430-4FCC-A98D-4C66271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1B65-3F6D-4418-A326-2A09023BC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7680" y="1980720"/>
            <a:ext cx="4248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rew Hirschho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App.Sc. (Hons) Physio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ior Associate Physiotherap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mead Private Physio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an Mungo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App.Sc. Physiotherapy, M.Ph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Physiotherap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mead Private Physio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39760" y="171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e-operative period to hospital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Westmead Private (Night)"/>
          <p:cNvPicPr/>
          <p:nvPr/>
        </p:nvPicPr>
        <p:blipFill>
          <a:blip r:embed="rId1"/>
          <a:stretch/>
        </p:blipFill>
        <p:spPr>
          <a:xfrm>
            <a:off x="4572000" y="1987560"/>
            <a:ext cx="4324320" cy="32432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47680" y="1981080"/>
            <a:ext cx="86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0" y="171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piratory dysfunction versus respiratory 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are the statis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Diagram 11" descr=""/>
          <p:cNvPicPr/>
          <p:nvPr/>
        </p:nvPicPr>
        <p:blipFill>
          <a:blip r:embed="rId1"/>
          <a:stretch/>
        </p:blipFill>
        <p:spPr>
          <a:xfrm>
            <a:off x="480960" y="1974960"/>
            <a:ext cx="8669520" cy="14698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4572000" y="3429000"/>
            <a:ext cx="4324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rooks-Brunn, 1995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-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rasher et al, 2003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tiller et al, 1994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ulzebos et al, 2006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47680" y="3789360"/>
            <a:ext cx="4324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rschhorn et al, 200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duced VC: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XR changes: 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mperature &gt; 38 degrees: 5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IVV: 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iO2&gt;0.50 for &gt;24 hours: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itive sputum cultures: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piratory antibiotics: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0" y="1266840"/>
            <a:ext cx="43243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piratory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‘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hest physiotherapy (+++)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itioning (SUIB, SOOB, SOEO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ep breathing exercises (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oracic expansion exercises (T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stained maximal inspiration (S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centive spirometry (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PPB, CPAP, BiPAP, P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tive cycle of breathing techniques (ACB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uffing, coughing, forced expiratory technique (F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anual chest techniques (‘percs’ and ‘vibes’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0" y="171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traditional role of physi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bigstockphoto_Hammer_Striking_Nail_W_sparks_333329.jpg"/>
          <p:cNvPicPr/>
          <p:nvPr/>
        </p:nvPicPr>
        <p:blipFill>
          <a:blip r:embed="rId1"/>
          <a:stretch/>
        </p:blipFill>
        <p:spPr>
          <a:xfrm>
            <a:off x="247680" y="1627200"/>
            <a:ext cx="3959280" cy="3600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0" y="1266840"/>
            <a:ext cx="43243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piratory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‘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hest physiotherapy (+++)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itioning (SUIB, SOOB, SOEO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ep breathing exercises (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oracic expansion exercises (T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stained maximal inspiration (S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centive spirometry (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PPB, CPAP, BiPAP, P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tive cycle of breathing techniques (ACB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uffing, coughing, forced expiratory technique (F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anual chest techniques (‘percs’ and ‘vibes’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17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traditional role of physi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Breathing Exercises 2.wmv" descr=""/>
          <p:cNvPicPr/>
          <p:nvPr/>
        </p:nvPicPr>
        <p:blipFill>
          <a:blip r:embed="rId1"/>
          <a:stretch/>
        </p:blipFill>
        <p:spPr>
          <a:xfrm>
            <a:off x="247680" y="1627200"/>
            <a:ext cx="3963960" cy="36036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24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47680" y="1266840"/>
            <a:ext cx="8648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hylactic respiratory physiotherapy after cardiac surgery: systematic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quina et al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oes removal of deep breathing exercises from a physiotherapy program including pre-operative education and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arly mobilisati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fter cardiac surgery alter patient outcom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sher et al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ep breathing exercises reduce atelectasis and improve pulmonary function after coronary artery bypass 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erdahl et a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ncentive spirometry for preventing pulmonary complications after coronary artery bypass graft (Cochrane database of systematic revie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itas et al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39760" y="171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’ physiotherapy – how does it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47680" y="1626840"/>
            <a:ext cx="8648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‘chest’ physiotherapy techniques, with differing purported mechanisms of 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idence is lacking as to whethe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ophylactic, post-oper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spiratory physiotherapy prevents pulmonary complications after cardiac surgery (although the component studies of systematic reviews are of low qu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some evidence that positive expiratory pressure techniques reduce the ‘normal’ respiratory dysfunction following cardiac 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vailable research does not discuss the efficacy of respiratory physiotherapy in patients who hav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velop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st-operative pulmonary com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39760" y="171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’ physiotherapy – how does it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psho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7680" y="1266840"/>
            <a:ext cx="86486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-operative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-operative (inpatient)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39760" y="171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literature: what we know wor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8040" y="1266840"/>
            <a:ext cx="496728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-operative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iratory muscle training (IM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lzebos et al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ig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-blind R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aiting CABG, ‘high risk’ of PP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ention gro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training for &gt; 2/52 pre-operatively in IMT and incentive spir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com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C,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39760" y="171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T.wmv" descr=""/>
          <p:cNvPicPr/>
          <p:nvPr/>
        </p:nvPicPr>
        <p:blipFill>
          <a:blip r:embed="rId1"/>
          <a:stretch/>
        </p:blipFill>
        <p:spPr>
          <a:xfrm>
            <a:off x="5653080" y="1627200"/>
            <a:ext cx="3243240" cy="2882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996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8040" y="1266840"/>
            <a:ext cx="5045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-operative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iratory muscle training (IM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lzebos et al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ative physiotherapy with IMT administered to patients at high risk of PPCs before CABG was associated with a decrease 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cidence of PPC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ngth of hospital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tent Placeholder 7" descr="powerbreathe-new.jpg"/>
          <p:cNvPicPr/>
          <p:nvPr/>
        </p:nvPicPr>
        <p:blipFill>
          <a:blip r:embed="rId1"/>
          <a:stretch/>
        </p:blipFill>
        <p:spPr>
          <a:xfrm>
            <a:off x="6013440" y="1987560"/>
            <a:ext cx="2882880" cy="32432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46" name="Text Box 6"/>
          <p:cNvSpPr/>
          <p:nvPr/>
        </p:nvSpPr>
        <p:spPr>
          <a:xfrm>
            <a:off x="239760" y="171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47680" y="1266840"/>
            <a:ext cx="43243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-operative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 exercise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hur et al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ig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ing list for elective CA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ention gro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ice weekly exercise training, education/re-inforcement/nurs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com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, Q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39760" y="171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266840"/>
            <a:ext cx="42480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patient exercise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rdy et al, 200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sig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ati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patients awaiting CA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ntervention gro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ase 1 CR, incentive spirometry, IP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CU stay, A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7680" y="1266840"/>
            <a:ext cx="5045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-operative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atient exercise 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 der Peijl et al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ig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-blind R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emergency CAB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ention gro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frequency (twice daily, week-ends) exercise from PO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com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M scores, patient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39760" y="171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39760" y="171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e-operative period to hospital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deep brea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47680" y="1266840"/>
            <a:ext cx="86486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-operative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ice-daily, moderate intensity, walking exercis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ig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ime, isolated CABG patients (n=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eatment 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intervention, walking, walking/brea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MWA, vital capacity, HRQ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39760" y="171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literature: Hirschhorn et al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2"/>
          <p:cNvGraphicFramePr/>
          <p:nvPr/>
        </p:nvGraphicFramePr>
        <p:xfrm>
          <a:off x="247680" y="1266840"/>
          <a:ext cx="8648640" cy="50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266840"/>
                    <a:ext cx="864864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6"/>
          <p:cNvSpPr/>
          <p:nvPr/>
        </p:nvSpPr>
        <p:spPr>
          <a:xfrm>
            <a:off x="239760" y="171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literature: Hirschhorn et al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6373800" y="1627200"/>
            <a:ext cx="25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MWA distance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247680" y="1266840"/>
          <a:ext cx="8648640" cy="50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266840"/>
                    <a:ext cx="864864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"/>
          <p:cNvSpPr/>
          <p:nvPr/>
        </p:nvSpPr>
        <p:spPr>
          <a:xfrm>
            <a:off x="239760" y="171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literature: Hirschhorn et al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475080" y="1960560"/>
            <a:ext cx="714240" cy="13971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6734160" y="1266840"/>
            <a:ext cx="216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etter than ‘standard’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 = 0.005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 = 0.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2"/>
          <p:cNvCxnSpPr>
            <a:stCxn id="168" idx="1"/>
          </p:cNvCxnSpPr>
          <p:nvPr/>
        </p:nvCxnSpPr>
        <p:spPr>
          <a:xfrm flipH="1">
            <a:off x="4210920" y="1928880"/>
            <a:ext cx="2523240" cy="419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47680" y="1266480"/>
            <a:ext cx="4248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ardiothoracic Surgical t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rge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/Prof Richard Ch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 Robert C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 Ian Nichol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 Hugh Pat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ursing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ng thea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ve car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diovascular 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nical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/Prof David Rich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39760" y="171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e-operative period to hospital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3" descr="Westmead Private (Night)"/>
          <p:cNvPicPr/>
          <p:nvPr/>
        </p:nvPicPr>
        <p:blipFill>
          <a:blip r:embed="rId1"/>
          <a:stretch/>
        </p:blipFill>
        <p:spPr>
          <a:xfrm>
            <a:off x="4572000" y="1266840"/>
            <a:ext cx="4324320" cy="32432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76" name="TextBox 7"/>
          <p:cNvSpPr/>
          <p:nvPr/>
        </p:nvSpPr>
        <p:spPr>
          <a:xfrm>
            <a:off x="4572000" y="4870440"/>
            <a:ext cx="46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estmead Private Hospital 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39760" y="171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mead Private Physiotherap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urrent work: a change in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TKR.jpg"/>
          <p:cNvPicPr/>
          <p:nvPr/>
        </p:nvPicPr>
        <p:blipFill>
          <a:blip r:embed="rId1"/>
          <a:stretch/>
        </p:blipFill>
        <p:spPr>
          <a:xfrm>
            <a:off x="608040" y="1987560"/>
            <a:ext cx="4324320" cy="32432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81" name="TextBox 5"/>
          <p:cNvSpPr/>
          <p:nvPr/>
        </p:nvSpPr>
        <p:spPr>
          <a:xfrm>
            <a:off x="5292720" y="4870440"/>
            <a:ext cx="360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Diagram 6" descr=""/>
          <p:cNvPicPr/>
          <p:nvPr/>
        </p:nvPicPr>
        <p:blipFill>
          <a:blip r:embed="rId2"/>
          <a:stretch/>
        </p:blipFill>
        <p:spPr>
          <a:xfrm>
            <a:off x="5254560" y="1974960"/>
            <a:ext cx="3846600" cy="2414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6734160" y="1987560"/>
            <a:ext cx="216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duction in complication r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5292720" y="3429000"/>
            <a:ext cx="252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cus on function and functional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39760" y="171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mead Private Physiotherap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urrent work: a change in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247680" y="1627200"/>
            <a:ext cx="8648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ortality and morbidity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porting outcome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S, discharge destination, completed st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w could we better measure the worth of what we are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 minute walk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Once an appropriate outcome measure had been established, how could we improve our perform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39760" y="171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mead Private Physiotherap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Flowchart.JPG"/>
          <p:cNvPicPr/>
          <p:nvPr/>
        </p:nvPicPr>
        <p:blipFill>
          <a:blip r:embed="rId1"/>
          <a:stretch/>
        </p:blipFill>
        <p:spPr>
          <a:xfrm>
            <a:off x="2049480" y="1266840"/>
            <a:ext cx="4010040" cy="54770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39760" y="171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mead Private Physiotherap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urrent work: a change in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Physiotherapy Program.JPG"/>
          <p:cNvPicPr/>
          <p:nvPr/>
        </p:nvPicPr>
        <p:blipFill>
          <a:blip r:embed="rId1"/>
          <a:stretch/>
        </p:blipFill>
        <p:spPr>
          <a:xfrm>
            <a:off x="247680" y="1987560"/>
            <a:ext cx="8648640" cy="32353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39760" y="171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mead Private Physiotherap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urrent work: a change in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Physiotherapy Program.JPG"/>
          <p:cNvPicPr/>
          <p:nvPr/>
        </p:nvPicPr>
        <p:blipFill>
          <a:blip r:embed="rId1"/>
          <a:stretch/>
        </p:blipFill>
        <p:spPr>
          <a:xfrm>
            <a:off x="247680" y="1987560"/>
            <a:ext cx="8648640" cy="32353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grpSp>
        <p:nvGrpSpPr>
          <p:cNvPr id="201" name="Oval 9"/>
          <p:cNvGrpSpPr/>
          <p:nvPr/>
        </p:nvGrpSpPr>
        <p:grpSpPr>
          <a:xfrm>
            <a:off x="1895400" y="2554200"/>
            <a:ext cx="5718240" cy="2114640"/>
            <a:chOff x="1895400" y="2554200"/>
            <a:chExt cx="5718240" cy="21146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1895400" y="2554200"/>
              <a:ext cx="57182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841480" y="2971800"/>
              <a:ext cx="382140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39760" y="171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mead Private Physiotherap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urrent work: a change in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Diagram 9" descr=""/>
          <p:cNvPicPr/>
          <p:nvPr/>
        </p:nvPicPr>
        <p:blipFill>
          <a:blip r:embed="rId1"/>
          <a:stretch/>
        </p:blipFill>
        <p:spPr>
          <a:xfrm>
            <a:off x="554040" y="1974960"/>
            <a:ext cx="6164280" cy="40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1266840"/>
            <a:ext cx="864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ffects of cardiac surgery on the respirator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piratory ‘dysfunction’ versus respiratory ‘complication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aditional roles of physiotherapy in the care of the cardiac surgical pa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hest’ physiotherapy: the techniques and the evidence b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esting recent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e-operative interventions (respiratory and otherw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t-operative interventions (respiratory and otherw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estmead Private Physiotherap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Our current work: a change in outcome/foc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39760" y="171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e-operative period to hospital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39760" y="171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mead Private Physiotherap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urrent work: a change in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Diagram 5" descr=""/>
          <p:cNvPicPr/>
          <p:nvPr/>
        </p:nvPicPr>
        <p:blipFill>
          <a:blip r:embed="rId1"/>
          <a:stretch/>
        </p:blipFill>
        <p:spPr>
          <a:xfrm>
            <a:off x="1311120" y="1974960"/>
            <a:ext cx="6521760" cy="2536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47680" y="3429000"/>
            <a:ext cx="8648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r some patients, the exercise that they receive in hospital (phase 1 CR) may be the only supervised exercise they rece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ictoria: 53.1% attendance (Bunker  et al, 1999) - CA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Queensland: 10% of patients discharged after acute coronary events and revascularisation procedures completed OCR programs. (Scott et al,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nnesota: 59% attendance (Evenson et al, 1998) - CA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39760" y="171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mead Private Physiotherap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urrent work: a change in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Diagram 6" descr=""/>
          <p:cNvPicPr/>
          <p:nvPr/>
        </p:nvPicPr>
        <p:blipFill>
          <a:blip r:embed="rId1"/>
          <a:stretch/>
        </p:blipFill>
        <p:spPr>
          <a:xfrm>
            <a:off x="0" y="907920"/>
            <a:ext cx="737064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39760" y="171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get patients there fa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get patients ‘as good as possible’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C:\Documents and Settings\Wanda Yung\Local Settings\Temporary Internet Files\Content.IE5\W5IBWPUF\MPj04372980000[1].jpg"/>
          <p:cNvPicPr/>
          <p:nvPr/>
        </p:nvPicPr>
        <p:blipFill>
          <a:blip r:embed="rId1"/>
          <a:stretch/>
        </p:blipFill>
        <p:spPr>
          <a:xfrm>
            <a:off x="608040" y="1987560"/>
            <a:ext cx="3603600" cy="42768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221" name="TextBox 7"/>
          <p:cNvSpPr/>
          <p:nvPr/>
        </p:nvSpPr>
        <p:spPr>
          <a:xfrm>
            <a:off x="4572000" y="1987560"/>
            <a:ext cx="4324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rill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nsity of 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dality of 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uration of 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equency of 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ose-response relationship to 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47680" y="17136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ting of perceived exertion (RPE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g, 198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rpe scale.JPG"/>
          <p:cNvPicPr/>
          <p:nvPr/>
        </p:nvPicPr>
        <p:blipFill>
          <a:blip r:embed="rId1"/>
          <a:stretch/>
        </p:blipFill>
        <p:spPr>
          <a:xfrm>
            <a:off x="247680" y="906480"/>
            <a:ext cx="3963960" cy="54165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26" name="Picture 8" descr="DSC00017"/>
          <p:cNvPicPr/>
          <p:nvPr/>
        </p:nvPicPr>
        <p:blipFill>
          <a:blip r:embed="rId2"/>
          <a:stretch/>
        </p:blipFill>
        <p:spPr>
          <a:xfrm>
            <a:off x="4572000" y="906480"/>
            <a:ext cx="3963960" cy="3603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39760" y="171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onary cycling versus walking: a comparison of exercise modalities following CAB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Physiotherapy Program.JPG"/>
          <p:cNvPicPr/>
          <p:nvPr/>
        </p:nvPicPr>
        <p:blipFill>
          <a:blip r:embed="rId1"/>
          <a:stretch/>
        </p:blipFill>
        <p:spPr>
          <a:xfrm>
            <a:off x="247680" y="1987560"/>
            <a:ext cx="8648640" cy="32353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39760" y="171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onary cycling versus w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me early resul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247680" y="1987560"/>
            <a:ext cx="864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 = 10 (9M:1F) (6W:4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ge: 64 ±10 years, range 44-81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OS: median 6.5 days, range 6-8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ost-operative atrial fibrillation: 1 patie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 of potential exercise sessions: 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 of exercise sessions attended: 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39760" y="171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onary cycling versus w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me early resul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247680" y="1627200"/>
            <a:ext cx="4684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alkers (n=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n distance walked dai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in 20 minut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3: 836m; d4:1135m; d5: 127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n distance walked overal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870 ± 103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ll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%6MWA achieved at dischar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7 ± 20%, distance: 430 ± 9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Chart 5" descr=""/>
          <p:cNvPicPr/>
          <p:nvPr/>
        </p:nvPicPr>
        <p:blipFill>
          <a:blip r:embed="rId1"/>
          <a:stretch/>
        </p:blipFill>
        <p:spPr>
          <a:xfrm>
            <a:off x="4211640" y="1627200"/>
            <a:ext cx="468468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39760" y="171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onary cycling versus w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me early resul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247680" y="1627200"/>
            <a:ext cx="4684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yclists (n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n cycling workload dai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in 20 minut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3: 32kJ; d4: 40kJ; d5: 49kJ; d6 55k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n cycling workload overal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76 ± 85k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ll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%6MCA achieved at dischar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6 ± 47%, work: 17 ± 6k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Cycling 2.wmv" descr=""/>
          <p:cNvPicPr/>
          <p:nvPr/>
        </p:nvPicPr>
        <p:blipFill>
          <a:blip r:embed="rId1"/>
          <a:stretch/>
        </p:blipFill>
        <p:spPr>
          <a:xfrm>
            <a:off x="4932360" y="1987560"/>
            <a:ext cx="3963960" cy="32432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9840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39760" y="171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research directions an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247680" y="1266840"/>
            <a:ext cx="86486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mittent versus continuous exerci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ing effects on Phase 2 cardiac rehabilitation upt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ith the ultimate goal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) maximising the skill of the surgeon, and their surgical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i) developing a structured, evidence-based approach to the post-operative management and training of the cardiac surgical patient cas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7680" y="1987200"/>
            <a:ext cx="432432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e-operative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ynne and Botti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e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vanced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m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hronic hear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mergency 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evious cardiac 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m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0" y="17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ffects of cardiac surgery on the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0" y="1980720"/>
            <a:ext cx="432432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ntra-operative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ynne and Botti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piratory de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urological inj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ung de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diopulmonary bypass (and incrased duration there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pical coo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MA dis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umber of bypass graf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ower core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ernot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17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ffects of cardiac surgery on the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OT Team In Action 2.JPG"/>
          <p:cNvPicPr/>
          <p:nvPr/>
        </p:nvPicPr>
        <p:blipFill>
          <a:blip r:embed="rId1"/>
          <a:stretch/>
        </p:blipFill>
        <p:spPr>
          <a:xfrm>
            <a:off x="608040" y="1987560"/>
            <a:ext cx="3603600" cy="32432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0" y="1980720"/>
            <a:ext cx="432432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ost-operative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ynne and Botti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piratory de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renic nerve and/or diaphragmatic dys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mmobility/bed-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hest d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leural e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17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ffects of cardiac surgery on the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17232.jpg"/>
          <p:cNvPicPr/>
          <p:nvPr/>
        </p:nvPicPr>
        <p:blipFill>
          <a:blip r:embed="rId1"/>
          <a:stretch/>
        </p:blipFill>
        <p:spPr>
          <a:xfrm>
            <a:off x="247680" y="2122560"/>
            <a:ext cx="3963960" cy="29732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17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ffects of cardiac surgery on the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17232.jpg"/>
          <p:cNvPicPr/>
          <p:nvPr/>
        </p:nvPicPr>
        <p:blipFill>
          <a:blip r:embed="rId1"/>
          <a:stretch/>
        </p:blipFill>
        <p:spPr>
          <a:xfrm>
            <a:off x="247680" y="1266840"/>
            <a:ext cx="3963960" cy="43243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89" name="Picture 8" descr="Post-cardiac surgery, lines, bibasal changes.jpg"/>
          <p:cNvPicPr/>
          <p:nvPr/>
        </p:nvPicPr>
        <p:blipFill>
          <a:blip r:embed="rId2"/>
          <a:stretch/>
        </p:blipFill>
        <p:spPr>
          <a:xfrm>
            <a:off x="4572000" y="1266840"/>
            <a:ext cx="3963960" cy="43243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17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ffects of cardiac surgery on the 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Post-cardiac surgery, lines, bibasal changes.jpg"/>
          <p:cNvPicPr/>
          <p:nvPr/>
        </p:nvPicPr>
        <p:blipFill>
          <a:blip r:embed="rId1"/>
          <a:stretch/>
        </p:blipFill>
        <p:spPr>
          <a:xfrm>
            <a:off x="2409840" y="1627200"/>
            <a:ext cx="3963960" cy="43243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7680" y="1981080"/>
            <a:ext cx="86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0" y="171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piratory dysfunction versus respiratory 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digression of intere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247680" y="1987560"/>
            <a:ext cx="864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constitutes (normal) respiratory dysfunction following cardiac surg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, then, characterises a (significant) respiratory com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11" descr=""/>
          <p:cNvPicPr/>
          <p:nvPr/>
        </p:nvPicPr>
        <p:blipFill>
          <a:blip r:embed="rId1"/>
          <a:stretch/>
        </p:blipFill>
        <p:spPr>
          <a:xfrm>
            <a:off x="237960" y="3432240"/>
            <a:ext cx="8668080" cy="226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7:36:49Z</dcterms:created>
  <dc:creator>Mungovan Breckenridge Physiot</dc:creator>
  <dc:description/>
  <dc:language>en-US</dc:language>
  <cp:lastModifiedBy>Sam Leong</cp:lastModifiedBy>
  <dcterms:modified xsi:type="dcterms:W3CDTF">2013-07-01T23:39:50Z</dcterms:modified>
  <cp:revision>305</cp:revision>
  <dc:subject/>
  <dc:title>Slide 1</dc:title>
</cp:coreProperties>
</file>