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E02-AC54-437C-A174-5E5CBD86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45F-83BB-414C-A24F-EAF1D96D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99C-FA45-4DE7-BDBB-BA3F1A82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267-A318-401B-9BC0-8A3F7593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3DF-B856-4944-94BF-84B6FE46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9B9-8D9E-4F07-990C-D5A16AFC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18A-0E43-489A-AD86-CA247F67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0B2-7753-48FE-8BAC-6106970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74E-2801-44E8-98F3-F5C76A11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B58-A0C5-450F-8FFF-EAB591AE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96A-059F-48AB-A4AD-C7F5A5DF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BA7-A259-413A-BC21-313A3D47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0D8E-A81C-4D9E-A650-5CEAEB886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Musculoskeletal pain in Hyundai A-League and Westfield W-League match offi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An observa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4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ey 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Hirschhorn AD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,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ungovan SF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,2,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Breckenridge J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,2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ntral West Orthopaedic and Sports Physiotherapy, Syd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linical Research Institute, Syd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stmead Private Physiotherapy Services, Syd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852480" cy="868320"/>
          </a:xfrm>
          <a:prstGeom prst="rect">
            <a:avLst/>
          </a:prstGeom>
          <a:ln w="25560">
            <a:solidFill>
              <a:srgbClr val="ffcc66"/>
            </a:solidFill>
            <a:miter/>
          </a:ln>
        </p:spPr>
      </p:pic>
      <p:pic>
        <p:nvPicPr>
          <p:cNvPr id="44" name="Picture 6" descr="http://www.hummel.com.au/res/Image/hummel/W_League%20Badge_FC_Grad_Pos.jpg"/>
          <p:cNvPicPr/>
          <p:nvPr/>
        </p:nvPicPr>
        <p:blipFill>
          <a:blip r:embed="rId3"/>
          <a:stretch/>
        </p:blipFill>
        <p:spPr>
          <a:xfrm>
            <a:off x="8381880" y="152280"/>
            <a:ext cx="625680" cy="871560"/>
          </a:xfrm>
          <a:prstGeom prst="rect">
            <a:avLst/>
          </a:prstGeom>
          <a:ln w="255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Injury-tim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Drayton, J, REVEALED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fs run more than the Premier League stars (yes, really!) and get 99% of offside calls correct, media rele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13th August, Associated Newspapers Ltd, viewed 22nd August 2013,                                &lt;</a:t>
            </a:r>
            <a:r>
              <a:rPr b="0" lang="en-US" sz="2000" spc="-1" strike="noStrike">
                <a:solidFill>
                  <a:srgbClr val="ffd826"/>
                </a:solidFill>
                <a:latin typeface="Arial"/>
              </a:rPr>
              <a:t>http://www.dailymail.co.uk/sport/football/article-2391215/Referees-run-players-99-cent-offsides-correct-claims-report.html#ixzz2cehv76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012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oskeletal pain and injury patterns among elite football (soccer) players have been extensively resear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limited data on musculoskeletal pain and injury patterns among elite footbal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tch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hysical demands of match officiating at the elite level are comparable to those of playing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826"/>
                </a:solidFill>
                <a:latin typeface="Arial"/>
              </a:rPr>
              <a:t>Study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prevalent is musculoskeletal pain among elite (Hyundai A-League, Westfield W-League) football match offic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pain prevalence change over the course of the sea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differences between referees and assistant referees (linesmen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tball Federation of Australia (FFA) contracted match officials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2/13 Hyundai A-League and Westfield W-Le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15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:F = 28: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: 28 ± 4 years (range: 19 to 41 yea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es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t referees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ch officials undertook a mandated fitness program both before and during the football 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ch officials completed self-report pain surveys on three occa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-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-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/severity of musculoskeletal pain across 11 anatomical sites in four body regions (spinal, hip, knee, foot/ankle) were assessed using 0 to 10 Liker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s ≥ 4/10 were considered positive for (moderate or greater)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-34920" y="0"/>
            <a:ext cx="9144000" cy="6858000"/>
          </a:xfrm>
          <a:prstGeom prst="rect">
            <a:avLst/>
          </a:prstGeom>
          <a:solidFill>
            <a:srgbClr val="012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Results: Prevalence of musculoskeletal p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9907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-season, 40/45 referees (89%) reported pain at ≥ one site. End-season, 32/45 (71%) reported pain at ≥ one site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0.063 vs pre-season). There was a significant reduction in the reported number of painful sites across the football season (pre-season: 3.6 ± 2.8 sites vs end-season: 2.1 ± 2.1 sites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0.004) </a:t>
            </a:r>
            <a:r>
              <a:rPr b="0" lang="en-US" sz="1800" spc="-1" strike="noStrike">
                <a:solidFill>
                  <a:srgbClr val="ffd826"/>
                </a:solidFill>
                <a:latin typeface="Arial"/>
              </a:rPr>
              <a:t>– see 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8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1181160" y="2309760"/>
            <a:ext cx="7064280" cy="4319640"/>
          </a:xfrm>
          <a:prstGeom prst="rect">
            <a:avLst/>
          </a:prstGeom>
          <a:ln w="255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-34920" y="0"/>
            <a:ext cx="9144000" cy="6858000"/>
          </a:xfrm>
          <a:prstGeom prst="rect">
            <a:avLst/>
          </a:prstGeom>
          <a:solidFill>
            <a:srgbClr val="012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Results: Change in pain prevalence over sea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9280" y="9907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was a significant reduction in the prevalence of hip (p=0.017), knee (p=0.010) and ankle (p=0.017) pain from pre-season to end-season </a:t>
            </a:r>
            <a:r>
              <a:rPr b="0" lang="en-US" sz="1800" spc="-1" strike="noStrike">
                <a:solidFill>
                  <a:srgbClr val="ffd826"/>
                </a:solidFill>
                <a:latin typeface="Arial"/>
              </a:rPr>
              <a:t>– see 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8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181160" y="2311560"/>
            <a:ext cx="7074000" cy="4319280"/>
          </a:xfrm>
          <a:prstGeom prst="rect">
            <a:avLst/>
          </a:prstGeom>
          <a:ln w="255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012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Results: Differences between referees and assistant refe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280" y="12193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ignificantly higher proportion of assistant referees than referees reported end-season knee pain (p = 0.008) </a:t>
            </a:r>
            <a:r>
              <a:rPr b="0" lang="en-US" sz="1800" spc="-1" strike="noStrike">
                <a:solidFill>
                  <a:srgbClr val="ffd826"/>
                </a:solidFill>
                <a:latin typeface="Arial"/>
              </a:rPr>
              <a:t>– see 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8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1181160" y="2311560"/>
            <a:ext cx="7074000" cy="4319280"/>
          </a:xfrm>
          <a:prstGeom prst="rect">
            <a:avLst/>
          </a:prstGeom>
          <a:ln w="255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Conclusions and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oskeletal pain is common in elite football match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prevalence decreases across the course of the football sea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ee pain is more prevalent in assistant referees than refe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ith players, match officials may benefit from formalised training and injury preven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826"/>
                </a:solidFill>
                <a:latin typeface="Arial"/>
              </a:rPr>
              <a:t>Directions for futur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causative mechanisms of pain for assistant referees vs refere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optimal training and injury prevention programs for elite football match offic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2514600" y="3049560"/>
            <a:ext cx="4114800" cy="2741760"/>
          </a:xfrm>
          <a:prstGeom prst="rect">
            <a:avLst/>
          </a:prstGeom>
          <a:ln w="255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03:58:05Z</dcterms:created>
  <dc:creator>Office 2004 Test Drive User</dc:creator>
  <dc:description/>
  <dc:language>en-US</dc:language>
  <cp:lastModifiedBy>Andrew Hirschhorn</cp:lastModifiedBy>
  <dcterms:modified xsi:type="dcterms:W3CDTF">2013-09-27T01:30:11Z</dcterms:modified>
  <cp:revision>27</cp:revision>
  <dc:subject/>
  <dc:title>PowerPoint Presentation</dc:title>
</cp:coreProperties>
</file>